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743-FBD3-4774-B80D-33E86BA2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B3A-2D74-4E4E-8FE7-5B19D60D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7FC87-512F-4E72-B69E-5A946F92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F7121-87F0-47FA-965F-68162D63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8DC7E-E009-49E4-B635-CE96E8FA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3541F-0A99-4D98-BAFA-38AFC0C0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8FCE9-974F-44C0-984C-E26F025B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CA616-676C-4FD2-90DE-4FEE09B8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05165-CF36-4031-8FF7-6F209004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B2C90-33A8-4411-BFBC-12C81853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038EF-844E-4BF0-ADD8-68DA27BE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C98C5-2436-445B-A8BD-35ED1F4E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6EF-61E7-4606-88ED-4C9C68E4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BDFFF-4A0F-4B0C-96E3-C18E4751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C3C93-A761-419F-A53A-D0943AF5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1B9AA-51D3-41F6-9D17-17BA1A77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9C172-DA24-47E0-A5CE-A736C8CA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4DEA3-1557-42C6-8F6F-CA01D79C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C2DC8-D65F-4AA0-98E7-E348EF49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3F36F-8915-49A5-B1E8-A460A414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B39C7-D300-4AFC-A233-60A369A5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C4157-DEE9-4D87-8FE5-D7023F1F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26DF0-C745-4606-BD85-F2296230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6636-3602-4E37-BFCB-7621FD80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64260-A3C5-426B-8CD8-73C9017B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BD240-96BB-4477-926D-ACD84CCF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82F82-22E5-4492-93B7-0DA6AD15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60A207-BAA2-4C5A-97D8-C9F18BB9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F9FCB-F3B6-458E-BD6E-74CA5577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00B28-F828-4A4E-99B3-640863E9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2CC7B-205B-4EE7-980F-03D12A16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91F25-4A28-4B75-B375-0286CA76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FE1AA-11A2-4014-93DB-9984513F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C0FB4-CA11-45CF-AAAA-551C5301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D6DC-2359-494D-99F2-E7366793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14702-19B0-45F9-BFEC-DE66F74D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2DC0C-95AA-47F4-8255-5F0AA80A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26E2E-EE20-4643-A551-92903510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0EF01-AADA-449D-8EDE-D9CD769C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1A8B6-9FF6-45A0-8D0D-429A86EC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C64B2-5784-4753-9367-0865592F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CC422-5078-4B30-9BE5-7BBBA462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F257A-2E67-494B-A0BF-D5F6C5C4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AFC895-100D-47BD-AA22-1C0D25FC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120A5-2B02-415A-BFB5-7C3A29DA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3ECF-DC3B-4F58-BD38-C3DF3046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34312-866A-4585-81A0-D432D35F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298FB-081D-410E-8060-074C5D82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AA73D-271C-4D0F-A542-3329D786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0DBF5-5F1A-4F13-A8AC-F4F60AFD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15BDC-1B26-4825-9CAA-AC67FF0C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003D8-3084-456E-87C2-343B950E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C9D02-FFEF-4021-8F01-D67534ED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A719C-1FBF-4034-A88E-D99F76EF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36256-2BD1-457A-8145-F5DA2817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D2CDA-D8DD-48E8-9CC5-11BBA48B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376F-259E-497F-B694-CE55B900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C764F-048A-4BDD-904A-8D32AD16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31F0E9-1EDF-48E1-A43E-7FF39D37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83C45-E1AF-41BC-888D-059A260C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03102-46D6-4F05-8A33-726B12DE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BA7EC5-C80B-474F-AB64-D4367823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0F42FD-FA44-4A05-AC01-EB1E462B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A5659-2676-4661-9AD7-1D11F2FE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38DA0-E258-458C-84D0-C66BCA0D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AA186-6138-4E26-A0C1-ACAE7F09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C249E-6505-4DB7-9FC7-76A208C0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8738-2BA7-40A5-B605-0CD9A23A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0114A5-AEA0-42CD-8FA3-57C0B5F6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70F4E-8B15-4771-8AE6-F74A9FA0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A92D0-9C85-4C3E-82CE-155C742A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2CB0D2-1EAF-4669-B1F3-DD75DC34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7EE28-1452-4F1E-AF7A-030A01AC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BC7B75-6304-4D8F-AC15-4AE80863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80B3FE-1EB3-43F8-A46A-8B337550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010DE-0EF2-4E94-A432-49C7637C8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18965-38FA-43FA-8E3B-BC99C67E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022D9D-C11E-4D7D-B173-AF42A7A7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0EC3-4BFA-422A-A5FF-D3BD7704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B2285F-9D18-4D86-9F63-0D4A0A52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EB3690-3EAF-46BD-AC83-640EF87D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CB0727-F1DB-41CB-B3E1-0848ACD1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06CE06-191F-429A-9C65-83DBE4C2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9C0AB-0763-4BAD-A698-EBA9F1A2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7FBF7A-8428-47E8-BFDB-CDCB6EA4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C593E3-95CE-407F-BCB1-F84CDD52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58238F-6B83-4269-8396-628FC639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C6290-DA8E-4898-A608-5E4A1A03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BD47A0-22CB-4D51-9AE2-9C6A2641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AFE7-6456-4653-A221-ACACDA8B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09DBF-5126-4D70-BC9D-F8871D0D2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93EE3-342A-4E65-B2D4-D9AFF0CE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BCBA7B-9A49-4363-BEC4-E2B401B7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91C2F9-046F-4F6D-AF02-9196B692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3379CA-C2CF-4350-80EA-354ABF84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302EAC-1C32-4CD2-BF00-48BEC96F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B0FBCD-9922-4743-9F9F-34F606CC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BC72B7-436B-45E9-B980-50E4D898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F644A-014A-4357-81B8-56DB97F0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B0C78C-63DF-4B80-A120-938C6669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7CD9-3168-475C-A571-735A201D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93ACF7-8A93-4196-B804-6DF9BB0D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C682C-A718-46C6-B01E-B084C0667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D7E68-034B-4FEE-8FA3-E7714C65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CC0CC7-4F2C-40C7-A948-7F0D1277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799013-3119-4410-AD15-A0E72005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CEA14F-4F80-4CA7-8B5B-440E2A55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787E9C-4A46-479B-A061-983383F0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BD1CFA-5105-4925-BE5C-210A233A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359C86-8B8B-438C-A7B1-9788F06E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E0ECB3-5D70-4E0D-883F-743B444B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BD1-09B6-419F-B9BE-A3A8D729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2AB9-AC28-4314-AD09-2B17AC4A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EE035F-7977-459A-901B-A84281B5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839F2B-5680-4808-A1B6-10EA653D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FA4511-5F43-4916-84EA-FBBB957D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233237-80F5-4F4F-AFF7-FD36918C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7A447-4B51-4015-B575-37D4D363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420EEA-4421-4170-9D08-C541890A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781C25-4C46-4E2B-90D0-048FA2DE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8FADBB-2B66-4B0F-805B-990759E6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4F7D89-13FF-4AB5-9143-408633C8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F40EE5-AE15-4C38-AE26-15352A33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AB4F-4F40-4872-A50F-93B7E097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C6A213-15E4-4C5E-B246-E9AB6D6B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3E067C-73BE-4F96-879B-8DB34E9C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52CC26-27B5-431D-989B-F1CE1AFB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039B6F-A2F1-4C61-AAD3-43ACEA8E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05E9B9-D9DC-4BA6-9FA3-16BD3F32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A461E7-55D5-4A31-9653-57F823617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0CB307-B49A-4423-AEE6-EF856420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744CF8-3883-402D-A041-932BF7CAB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510F84-F85B-4433-84AD-799C1760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4F8096-15FB-4DF2-A79D-52AD7A0E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6D97-06B2-4350-8FCE-DEED6281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CDCEC7-3338-4C69-8612-56381186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BE240C-C2FF-4371-9AD9-258140F0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7DFCFD-48C1-481D-A072-99CA4C0C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AE434F-7911-47FD-9325-7016F393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EDE564-29D7-4B22-AA7D-AE483D59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9C665C-7068-4579-BF29-6832FCC6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4DC0C1-5941-4230-A4CB-5994303B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367440-43C7-4E6E-BDEF-7398AA92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E6FEDF-D6CC-4088-8116-7A26E02D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75BDBD-5852-469A-BB1F-0BC5D2EF9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6496-7CE0-4CC9-9B6C-0E85AD3F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6F89FA-9DB4-40FD-A60A-B8C980D2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EFBECC-E82C-4A59-B232-F1C66152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B8FB74-FEBE-46A7-9A03-516E7B20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144EC9-B32C-45E9-B003-DEE69ABB6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FC2D11-C7AA-4780-9CF3-6ADFCB09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108F24-65D3-43C0-BBC8-F802A146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69DDDF-8E0E-4DB1-B091-E45995E2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386CC2-C696-4021-ADFA-5EC5FBCE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4C884B-7DB9-476C-9F1F-D2F803C0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A25E6-F6C6-425F-A643-7EBC1638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E41C-5240-49BE-857F-BF9A0B2F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6F3183-4193-4DE6-815F-68ABCB3D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60B038-34CD-4C51-9BF7-24AFEFA4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D4D6B7-11D8-4BF4-B0A6-5466FF18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984C6D-0E98-418D-A492-38566850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722E50-C294-43AA-8BB2-8C07819A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9E4BA5-857C-4194-B058-C06E592D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EF3F74-A1CC-41F8-AD7B-DB102D0A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6523A5-BB63-4570-A28A-7F3F8356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BC19D5-8650-43C2-AEA4-70140863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B16324-4311-482B-B3C4-90498824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72E21-0F7C-4954-8428-A7A5EDF2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976D9F-5D48-4A09-9E52-6894D813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BD0790-53E1-4AE2-8147-33C87EB9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5BA78-2E4A-4633-962A-7E26946C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3452C-43AA-4C06-9E24-0820BE76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F387D-C5DA-47B9-B101-E810AD06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A3C13-296F-4C5D-B78C-EA335150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F84EA-DB1F-4E83-B4EF-2DEEED41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C25F-C1F9-4641-8288-381795EC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9439D-F561-4569-804D-301132FE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96130-0D6D-46D8-9FF7-10C63DC3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88A8C-6DF3-40D3-876C-728D23BA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2221C-ED03-44A9-8CF9-4899C9D3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1847-2ED6-4B59-9929-DFBDCBA0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8850-C004-46EB-894F-5373B2D7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EB59-D4A0-4765-8C2A-4376F6360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11317-96CA-4ECF-9C96-F338C1A7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56518-51AF-4E24-8907-72BE3193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53F75-0626-44C2-9CB2-705603AF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E0E-1932-4634-8BC7-45A25B58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5E5B1-7D41-40D5-BAFF-6A0E76C4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64E70-DA44-456F-9160-C13D855F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E295A-1FC0-42AB-B331-3FE1CF16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117C9-E203-4807-B174-571831FC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5F667-CD3A-4D4D-B6DC-343A213A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579CC-DEFB-427E-B609-22CB3874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ACD8A-C8B5-4B7D-826A-F19E8633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206FE-2249-4BCA-9CFB-BF3B4EEB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4DDC8-C47E-4CB5-9E48-2D824C59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86C82-F0A6-4D93-A712-4BE97808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576-47D6-4148-9F97-B8860AC2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476F1-6FAA-4F56-B36B-CF3C1E36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54F4A-C087-4042-9334-84AF2744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01342-4B3D-4CCA-A069-703DF624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4D8B8-48E3-4B7C-8F47-7618B698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6FAF5-83FC-4B96-9220-FFCBF734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E59E4-F48E-4784-906C-E4F18399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02F34-5095-4218-85C4-631AC6CB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B427E-5858-4F5A-85DD-DDA30E43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76AE1-0FF1-4785-9F7B-332DA75A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28649-12FF-4F7C-B793-72D4BAA6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72C9-0223-4626-94CC-CD71D2B8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E233F-661C-48B8-9007-CBC42CB8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83262-8B87-4285-A997-0EB0CA52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B51AB-E78E-48C1-8F56-8CE35904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AEF8D-2B79-4C10-A593-652ACE1E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CAB1C-E316-49B3-93EF-794330F5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85B4D-538E-487F-833A-801761D2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DAD47-93B1-4167-A1E8-0795CBA9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6DA41-0610-48D1-8B6D-3AF37C50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2ADF4-C29B-4D8D-A8E6-E295203E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0B6B3-5C33-4986-AA49-F606F037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5D1-8FF3-4AEB-B907-17DF19E9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10FAA-AB49-42F7-9E48-EBC797CE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1EF76-BA67-4BC1-90DB-E3ECA2AC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CF2CC-6DEC-4138-A72C-1BA86ABF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CC7EA-3C5C-485A-988F-971A6D2D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F2888-7345-4B1F-9C4C-1C1E4444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F6ED3-91C0-46E3-A756-65F36540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15511-3BB4-4AAE-BE62-35E2ADAB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22595-468D-4493-89F4-4853B503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7421D-949D-439A-90D7-652C7B10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6329A-F0BD-41A9-974B-57872432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CA1-C7B5-4E84-BBBA-2DE6973C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19F42-B1A7-42CF-9D7A-6828C81C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DBAE7-D3B0-4430-830F-10A3930C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61F87-4B50-4E60-B796-7CF1BE70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BDE29-45BF-4608-95E0-5F0925B0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58BED-5229-4533-B6E0-3BF21D7F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3C55DA-2BF1-44B5-B3BD-C3B70C7B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FD561-CBB4-45E5-8149-27495CF7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7EBB4-899C-4E73-9C34-3CD2923C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BE5BF-0025-4C20-A9C6-D8DE1974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4BD1C-0FEB-4506-A1B7-2AB67E71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9D6A-071A-4329-9E54-074E99C9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47A4A-C704-4D97-B6B6-4164A63C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65666-BD7B-4464-A4B3-E8C50993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6248B-A7D5-4C74-91A2-0820DA36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39A11-F583-4EBE-A703-7D8AD548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782FB-4E28-4EB0-A826-7450927E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2F33B-F70D-48D9-B4C3-A48FB22B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24252-2728-45DF-A9CC-33A1DC5B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65B75-05B6-45D3-902B-DD57388D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7221C-08A0-4628-ADD9-5A5A564A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D4B0F-918A-4DDF-93EA-36B2C48C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BB2E-05AC-4957-AC44-8B77AB4B5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E1E4-590C-4F16-B0FF-5C9886CCFE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A553-CB67-41F1-A5EB-52BE88586C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0A2F-325D-48CB-B767-3198D18277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EB4E-B189-4C4B-B8DE-DABF1FEA1C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F739-F64D-4B36-898D-6CE7CAF237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BA80-0FCB-4A53-8634-7201C08475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E313-19FF-44FD-9192-6EBF28B0F6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A5DE-447C-457B-8A9C-083A1464CF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2997-D4B4-4564-B396-0F2AE8A1C5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AF8A-7B6A-46D3-8CF2-94715445D6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A18D-CE15-4639-90D3-3A57253B9B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EA22-DA8B-4445-A923-752025ABA4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162A-73AA-438F-8716-BD1B694717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BA30-7971-40E5-A9CF-B3A40D893B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9C054-EB53-4562-A49E-3FC9C2FD50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CE1B-F2D9-4817-95AB-788BCE477F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9FDD-943F-4EC6-B2A9-9EB9DD814E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F058-1945-4222-8B2D-CC0243AA4D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FB7B-84C2-4B5A-BBBC-FE8791BB90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7D5E-E6CA-4622-95F6-B523EC2E4C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832B-4EF9-4E39-A0C4-7AEFFBE024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D3E7-1594-4F2A-80AF-EACBC8D4D6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3EE0-02CB-408A-B317-15A4809D2A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80F5-CADB-4194-8D8A-D3C13D53E4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365C-91F1-4C1E-89C3-2C9A3CA5F1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A607-CD4C-4517-B636-445FCE5B78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8FB0-D973-4619-B1A0-9EE86BEAE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2C91-109A-4A4F-9DD1-4B780FA5FE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0322-13F9-465F-BA8F-F2A18F3E6A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9174-50D3-44B0-B62A-605B88F1D5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57A8-4BFF-4F23-9D00-F9CFC3FED6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AD24-B4EF-4574-A4CD-8E8666D1C1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F444-7735-4644-A569-BFAF917D77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0189-BA11-458C-97D1-2697165779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EF83-C8FF-48BA-B99B-6F8AE2C206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DB24-2459-4C3E-9FC5-AB246EE850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1BBB-CC1A-438E-9C24-4769487204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F804-5DF3-48AD-8494-192B5C0F2E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FAB6-ECFE-43DC-89D5-A1A495A118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2100240" y="3067200"/>
            <a:ext cx="49435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80960" y="747720"/>
            <a:ext cx="81820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80960" y="1052640"/>
            <a:ext cx="8182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2" descr=""/>
          <p:cNvPicPr/>
          <p:nvPr/>
        </p:nvPicPr>
        <p:blipFill>
          <a:blip r:embed="rId1"/>
          <a:stretch/>
        </p:blipFill>
        <p:spPr>
          <a:xfrm>
            <a:off x="566640" y="785880"/>
            <a:ext cx="8010720" cy="528624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000080" y="85716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1000080" y="185724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928800" y="292896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1000080" y="392904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1000080" y="5072040"/>
            <a:ext cx="419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628560" y="776160"/>
            <a:ext cx="7886880" cy="530568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1000080" y="85716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1000080" y="185724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1000080" y="300024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1000080" y="400068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1000080" y="507204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48680" cy="16858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500040" y="2357280"/>
            <a:ext cx="76104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0116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86480" cy="6143760"/>
          </a:xfrm>
          <a:prstGeom prst="rect">
            <a:avLst/>
          </a:prstGeom>
          <a:ln w="0">
            <a:noFill/>
          </a:ln>
        </p:spPr>
      </p:pic>
      <p:sp>
        <p:nvSpPr>
          <p:cNvPr id="1041" name="矩形 2"/>
          <p:cNvSpPr/>
          <p:nvPr/>
        </p:nvSpPr>
        <p:spPr>
          <a:xfrm>
            <a:off x="1000080" y="85716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3"/>
          <p:cNvSpPr/>
          <p:nvPr/>
        </p:nvSpPr>
        <p:spPr>
          <a:xfrm>
            <a:off x="928800" y="185724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4"/>
          <p:cNvSpPr/>
          <p:nvPr/>
        </p:nvSpPr>
        <p:spPr>
          <a:xfrm>
            <a:off x="928800" y="4857840"/>
            <a:ext cx="50004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442800" y="557280"/>
            <a:ext cx="8258400" cy="574344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857160" y="64296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857160" y="2286000"/>
            <a:ext cx="50004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14:4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